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88BF-32D1-4781-98EF-88FF27459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B11E-205A-44EB-96AB-A548369DE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3F5E-615E-43C9-86B2-72B8000D8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4244-FCD1-486C-8545-59EE7B40D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4560-6199-4A06-93CA-6FDD201FA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68F7-0DE2-4E24-8C51-445D0FAAD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87E7-F66B-4D0D-B833-C3904EBEB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B330-BFB8-4DB0-83A8-0FA3A8358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79D9-B72C-4481-A842-6CA774312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CDF7-169F-4D89-8994-7C2CD2A6F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8A6F-10AC-4D0A-9BC5-00B091FE5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E459-A536-4A7A-979A-6F9BED84E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8EE97-C290-42D7-9EED-432405A259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AP0234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CAP0235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CAP0236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CAP0237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1T03:03:45Z</dcterms:created>
  <dc:creator>USER</dc:creator>
  <dc:description/>
  <dc:language>en-US</dc:language>
  <cp:lastModifiedBy>USER</cp:lastModifiedBy>
  <dcterms:modified xsi:type="dcterms:W3CDTF">2002-11-01T03:05:55Z</dcterms:modified>
  <cp:revision>1</cp:revision>
  <dc:subject/>
  <dc:title>PowerPoint Presentation</dc:title>
</cp:coreProperties>
</file>